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412-DE5E-4BF9-BCEE-01EACABC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CC9-77E5-4F92-A435-E60F23A8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73E-66AB-4070-AC00-0021E47C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247-614A-41E9-A01B-C9BA1361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A4F-B57A-4569-809A-11600105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48B-E5FE-44FA-810B-2699241C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143-C07E-4BE8-9BC4-BF266154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26F-12D2-46CD-95E4-D5AE8756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2F9-6B31-4D2F-8CB2-A6D73C37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026-A996-44C4-918D-FF700385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195-89F6-4A65-99A5-A473B10E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D83-BC32-4196-AC08-664D7D7D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B0F6-71C4-41D4-996E-3F65686BC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607000" cy="72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14600" cy="63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655344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086600" cy="275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754380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4038480"/>
            <a:ext cx="1447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7925040" cy="194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1752480"/>
            <a:ext cx="6324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685800"/>
            <a:ext cx="6858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978360" cy="6324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76520" y="2514600"/>
            <a:ext cx="1752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809880"/>
            <a:ext cx="243864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17:53Z</dcterms:created>
  <dc:creator>grahams</dc:creator>
  <dc:description/>
  <dc:language>en-US</dc:language>
  <cp:lastModifiedBy>grahams</cp:lastModifiedBy>
  <dcterms:modified xsi:type="dcterms:W3CDTF">2012-03-22T12:53:03Z</dcterms:modified>
  <cp:revision>2</cp:revision>
  <dc:subject/>
  <dc:title>Slide 1</dc:title>
</cp:coreProperties>
</file>